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995-1F9F-4E38-899B-D5210262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266-FD18-40B3-9ED7-48A4ACBC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847-B45D-4F82-8F6A-9AD2BBA6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A3D-DB25-4AEE-90ED-0998FF31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353A-D46A-4E06-A1A1-E7DD0934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CC7B-2970-4D1C-8724-167778A0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F232-F8F8-4934-896B-1FC3D498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18ED-4E55-454D-AF6F-68194FFE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E862-E3DB-4543-8EF2-D1513238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69B5-FAD3-4CB1-B953-0B6A6017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C42F-EFEA-4512-B660-F661CBED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3F6-4328-4A61-8322-D410255B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3784-EC30-4000-A5FF-BCBE441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CA1E-4920-4B2C-BB6E-5C5B2D73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C055-163B-42EE-83FE-7D740622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CB88-4952-4504-9237-E312E3EF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C2C9-2AD7-400B-B4C0-F2B983B7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C78-2B98-4177-8DEF-3A9BEBD3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9F6-B8FB-41AE-B5A5-5388683A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262-F65A-42CC-8A7C-513CE6DF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394-9DB4-4DE3-B6DE-81E5B442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EAB-6037-4F8E-8507-2E141E0A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2FD-535D-4983-AABE-73C248A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894-B8F8-41F7-99B4-380B19DB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AC90-93E2-4BAD-9F0D-06BC0417E07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91CB-E8D1-4325-92B6-11DFA76311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Mom and Da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r. Lucc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18, 200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440" y="25909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amm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unctuation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S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Wide Wind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Secret Of Platform 1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ometr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ng Divis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im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activity in math wa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Million Dollar Proje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ilding circui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perimenting with wires, bulbs, and batteri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king Aquariums for fis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king Terrariums for bug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cial scientis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atitude and Longitu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209680" cy="1490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767720" y="2514600"/>
            <a:ext cx="1376280" cy="1374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>
            <a:off x="7543800" y="4008600"/>
            <a:ext cx="1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ll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anksgiving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ic Strip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ry Star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urnal Topic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r Student Let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ing to U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circui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Soda in G.T.E with Mrs. Lev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350532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8" name=""/>
          <p:cNvSpPr/>
          <p:nvPr/>
        </p:nvSpPr>
        <p:spPr>
          <a:xfrm flipH="1">
            <a:off x="4343400" y="4267080"/>
            <a:ext cx="1828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r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more of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be better at cursive by trying to write my letters very well and by practicing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be a better reader by reading more ofte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be a better speller by studying more than I d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4T15:28:36Z</dcterms:modified>
  <cp:revision>30</cp:revision>
  <dc:subject/>
  <dc:title>Welcome Mom and Dad!</dc:title>
</cp:coreProperties>
</file>